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8902-25F9-4F0B-9235-3F4940C0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9C50-A35D-4FAF-82B3-048BB314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593D-C941-443A-9A19-9FF9276D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E90-C727-4C28-9A58-76BD0353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1FD-40C2-4DEC-A22E-C51FA061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45C6-6E0B-41D2-8274-EF80F6B7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F941-03F2-40C1-99E3-E7420EDF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1EE-CAA3-4234-BEB3-6B1FF48A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4174-4B08-4395-A274-D115ABD6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7F9-6486-4452-98E2-81A5A72E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AA1-1214-4FD4-9D09-47F3B2EA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D98-D7BC-4AAD-A155-6729E6EA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F767-FB5E-4707-B709-690401643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bensguide.gpo.gov/3-5/state/index.html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228600"/>
            <a:ext cx="716292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virgin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6386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Brian gr7 c20 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9880" y="43434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4920" y="1828440"/>
            <a:ext cx="67820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: Rich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: 7,078,5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 entered union : 5/25/17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motto : sic semper tyran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nickname : old dom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flower : American dog 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b2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Virginia: Map and State Flag"/>
          <p:cNvPicPr/>
          <p:nvPr/>
        </p:nvPicPr>
        <p:blipFill>
          <a:blip r:embed="rId1"/>
          <a:srcRect l="-5275" t="37212" r="0" b="-11618"/>
          <a:stretch/>
        </p:blipFill>
        <p:spPr>
          <a:xfrm>
            <a:off x="0" y="0"/>
            <a:ext cx="1514520" cy="121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Virginia: Map and State Flag"/>
          <p:cNvPicPr/>
          <p:nvPr/>
        </p:nvPicPr>
        <p:blipFill>
          <a:blip r:embed="rId2">
            <a:lum contrast="6000"/>
          </a:blip>
          <a:srcRect l="0" t="-9295" r="9931" b="58141"/>
          <a:stretch/>
        </p:blipFill>
        <p:spPr>
          <a:xfrm>
            <a:off x="7848720" y="0"/>
            <a:ext cx="1295280" cy="838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Pontoons at Fredericksburg 1863"/>
          <p:cNvPicPr/>
          <p:nvPr/>
        </p:nvPicPr>
        <p:blipFill>
          <a:blip r:embed="rId3">
            <a:lum bright="22000"/>
          </a:blip>
          <a:stretch/>
        </p:blipFill>
        <p:spPr>
          <a:xfrm>
            <a:off x="3048120" y="5029200"/>
            <a:ext cx="2514600" cy="1593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85400" y="228240"/>
            <a:ext cx="47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s guide to us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irginia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6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bensguide.gpo.gov/3-5/state/index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45720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 civil war 3/10/11http://www.usa-civilwar.com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edericksbu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fdksbg_2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All images Copyright © 1997 - 2000 WriteLine. All Rights Reserved.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2133720" y="1143000"/>
            <a:ext cx="4190760" cy="2793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010280" y="1066680"/>
            <a:ext cx="1905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bert E. Lee Memorial Arlington National Cemetery, VA  3/8/11 http://www.postcardsfrom.com/t1/00021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28:26Z</dcterms:created>
  <dc:creator>install</dc:creator>
  <dc:description/>
  <dc:language>en-US</dc:language>
  <cp:lastModifiedBy>install</cp:lastModifiedBy>
  <dcterms:modified xsi:type="dcterms:W3CDTF">2011-03-16T15:56:16Z</dcterms:modified>
  <cp:revision>11</cp:revision>
  <dc:subject/>
  <dc:title>Slide 1</dc:title>
</cp:coreProperties>
</file>